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19E-BED8-4B66-AAC8-CDD5DC0D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446-D96F-44B5-B2E6-273AE32A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83C-871D-481A-BB27-A7491806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954-5FF0-41B1-9F22-541C5491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F668-621A-4985-908A-7D1800DE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9772-AD02-4765-870E-A37647F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F018-96C2-4241-A93D-3D498F77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2564-DCCB-40BD-A5F7-B2B4CAA8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17B6-235C-4BA4-8955-D43C8093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C0A9-101D-44AE-8F67-11431788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5F97-F25A-4357-957C-FA92752A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DEB-F182-4310-8337-C560BC8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8FCE-9A34-4F37-A350-2EFECCE7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2BFE-2D75-4535-89CA-F9070BEF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1428-E366-4F71-8392-03ECE4CB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6D9F-0685-473F-AABF-369460D0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F2F9-FC1F-42EF-A6CF-80B4899B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1346-7787-4C32-A117-230A8B44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1371-5275-44AA-838C-C18373CF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CBB6-51BF-476F-963F-8750DF08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A98E-7A60-4BE3-9A7C-757B0C06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5FC2-8633-4EAA-AB06-52D8E337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D5A-60A1-4B34-8DD7-26C2432C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F5D96-5CF6-408E-9766-8086FC91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17602-2F1E-4439-A137-F2CC7D8E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F1F5-BA89-416B-A8C9-02C7F2F3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05D17-8DC4-41B2-90BB-89F891AE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10EB-64DB-4CAD-BD06-BE1DA4D0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BF81-6B98-4C80-931D-B23F09D6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53AE-98AE-4203-82E9-0CA243E9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F3DC-6A92-4BC7-B02B-87879C2F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D36C-DD1A-4DF2-8EEF-349A6801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472A-ECFD-4BAB-B3D5-03361F37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5F4-4002-4E00-866F-19513EA0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77F01-D6C5-4D81-B39B-7318BCF3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542E8-0BCF-4D02-AD8F-047371B3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D0E77-99A4-4A64-9D1B-5976AE7D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E956B-613D-4AE7-860E-95B022BF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0770A-5715-49CA-9AD3-C7A12691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37F0F-EF3F-421E-8BF5-78DD0F2E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DDC58-3748-4744-921F-8358B48A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8F7B9-121A-436E-9E8F-B0A61A8A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36D3-BF06-461A-A69A-2951F2C4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51DC0-8E50-444E-BF85-D57D1F22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B21-1C1B-467B-A77B-1498F77A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B2A68-ECD7-4879-A896-2735051F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8DF8F-D07C-44D6-AD29-827DB36F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5F7E5-3BE0-4945-8C12-39D26884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C623E-6453-4929-B793-8991C341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13AC7-52B9-406B-B0AF-8194ED38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5E30-962E-46DD-88B3-B215D79A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74057-87E6-4EDE-A8D9-6EE7AE1B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63966-EA33-4886-9EE4-1BD5EE4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B02D-CDB2-4920-974E-D44533C0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34AAD-0AC8-47C4-A1DF-4298826B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18B-14C7-4CB1-9B6A-0EED5A13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F874-15E1-41C0-8D91-A1EC96B2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0E6-5E42-4D69-BD77-FE913E28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D973-FF02-4F8B-A8FD-1BEBD15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A09-BA88-4599-B80B-36D8CB8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E227-EF1F-482B-AA57-B0C1EE014C7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E746-315D-4E1D-9E4E-65FC3FEC88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0E90-146C-43C3-835E-B038B388AA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7D25-9D35-4D71-AA45-BB1D61AB7E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20A3-8D87-4EE0-A13E-8F60BBF1D5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Leader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Head of the Federal Reserve Board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en Bernank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5" name="Picture 2" descr="Ben Bernanke official portrait.jpg"/>
          <p:cNvPicPr/>
          <p:nvPr/>
        </p:nvPicPr>
        <p:blipFill>
          <a:blip r:embed="rId1"/>
          <a:stretch/>
        </p:blipFill>
        <p:spPr>
          <a:xfrm>
            <a:off x="3048120" y="22860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Director of Homeland Securit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anet Napolitano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Picture 2" descr="Janet Napolitano official portrait.jpg"/>
          <p:cNvPicPr/>
          <p:nvPr/>
        </p:nvPicPr>
        <p:blipFill>
          <a:blip r:embed="rId1"/>
          <a:stretch/>
        </p:blipFill>
        <p:spPr>
          <a:xfrm>
            <a:off x="2971800" y="152280"/>
            <a:ext cx="3505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hief Justice of the Supreme Cour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hn Robert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Picture 2" descr="File-Official roberts CJ cropped.jpg"/>
          <p:cNvPicPr/>
          <p:nvPr/>
        </p:nvPicPr>
        <p:blipFill>
          <a:blip r:embed="rId1"/>
          <a:stretch/>
        </p:blipFill>
        <p:spPr>
          <a:xfrm>
            <a:off x="2590920" y="228600"/>
            <a:ext cx="35049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frican-American Member of Supreme Cour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larence Thoma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2" descr="Clarence Thomas official SCOTUS portrait.jpg"/>
          <p:cNvPicPr/>
          <p:nvPr/>
        </p:nvPicPr>
        <p:blipFill>
          <a:blip r:embed="rId1"/>
          <a:stretch/>
        </p:blipFill>
        <p:spPr>
          <a:xfrm>
            <a:off x="2971800" y="152280"/>
            <a:ext cx="32004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wing Vote on the Supreme Cour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nthony Kennedy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2" descr="Anthony Kennedy official SCOTUS portrait.jpg"/>
          <p:cNvPicPr/>
          <p:nvPr/>
        </p:nvPicPr>
        <p:blipFill>
          <a:blip r:embed="rId1"/>
          <a:stretch/>
        </p:blipFill>
        <p:spPr>
          <a:xfrm>
            <a:off x="2971800" y="152280"/>
            <a:ext cx="34290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Newest Member of the Supreme Cour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lena Kaga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2" descr="Elena Kagan Official SCOTUS Portrait (2013).jpg"/>
          <p:cNvPicPr/>
          <p:nvPr/>
        </p:nvPicPr>
        <p:blipFill>
          <a:blip r:embed="rId1"/>
          <a:stretch/>
        </p:blipFill>
        <p:spPr>
          <a:xfrm>
            <a:off x="3124080" y="22860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Democratic Senator from Iow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om Harki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3" name="Picture 2" descr="Tom Harkin official portrait.jpg"/>
          <p:cNvPicPr/>
          <p:nvPr/>
        </p:nvPicPr>
        <p:blipFill>
          <a:blip r:embed="rId1"/>
          <a:stretch/>
        </p:blipFill>
        <p:spPr>
          <a:xfrm>
            <a:off x="2971800" y="152280"/>
            <a:ext cx="31240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Republican Senator from Iow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harles Grassley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6" name="Picture 2" descr="Sen Chuck Grassley official.jpg"/>
          <p:cNvPicPr/>
          <p:nvPr/>
        </p:nvPicPr>
        <p:blipFill>
          <a:blip r:embed="rId1"/>
          <a:stretch/>
        </p:blipFill>
        <p:spPr>
          <a:xfrm>
            <a:off x="2819520" y="152280"/>
            <a:ext cx="342900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U.S. Representative from our Distric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om Latham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Picture 2" descr="Tom Latham, official portrait, 112th Congress.jpg"/>
          <p:cNvPicPr/>
          <p:nvPr/>
        </p:nvPicPr>
        <p:blipFill>
          <a:blip r:embed="rId1"/>
          <a:stretch/>
        </p:blipFill>
        <p:spPr>
          <a:xfrm>
            <a:off x="2971800" y="152280"/>
            <a:ext cx="3429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nate Majority Leader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Harry Rei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2" name="Picture 2" descr="Harry Reid official portrait 2009.jpg"/>
          <p:cNvPicPr/>
          <p:nvPr/>
        </p:nvPicPr>
        <p:blipFill>
          <a:blip r:embed="rId1"/>
          <a:stretch/>
        </p:blipFill>
        <p:spPr>
          <a:xfrm>
            <a:off x="2666880" y="152280"/>
            <a:ext cx="342900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the United State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arack Obama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1" name="Picture 4" descr="U.S. President Barack Obama is photographed standing in front of the Resolute Desk in the Oval Office of the White House, December 6, 2012."/>
          <p:cNvPicPr/>
          <p:nvPr/>
        </p:nvPicPr>
        <p:blipFill>
          <a:blip r:embed="rId1"/>
          <a:stretch/>
        </p:blipFill>
        <p:spPr>
          <a:xfrm>
            <a:off x="2895480" y="3049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Governor of Iow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erry E. Bransta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5" name="Picture 2" descr="Picture of Terry Branstad as the 42nd Governor of Iowa"/>
          <p:cNvPicPr/>
          <p:nvPr/>
        </p:nvPicPr>
        <p:blipFill>
          <a:blip r:embed="rId1"/>
          <a:stretch/>
        </p:blipFill>
        <p:spPr>
          <a:xfrm>
            <a:off x="2590920" y="152280"/>
            <a:ext cx="35812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Lieutenant Governor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Kim Reynold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Picture 2" descr="Kim Reynolds cropped.jpg"/>
          <p:cNvPicPr/>
          <p:nvPr/>
        </p:nvPicPr>
        <p:blipFill>
          <a:blip r:embed="rId1"/>
          <a:stretch/>
        </p:blipFill>
        <p:spPr>
          <a:xfrm>
            <a:off x="2895480" y="152280"/>
            <a:ext cx="3505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4900320"/>
            <a:ext cx="830592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Member of the Iowa Senate from our Distric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Kent Sorens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1" name="Picture 2" descr="Kent Sorenson - Official Portrait - 84th GA.jpg"/>
          <p:cNvPicPr/>
          <p:nvPr/>
        </p:nvPicPr>
        <p:blipFill>
          <a:blip r:embed="rId1"/>
          <a:stretch/>
        </p:blipFill>
        <p:spPr>
          <a:xfrm>
            <a:off x="3048120" y="228600"/>
            <a:ext cx="28191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90032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Member of the Iowa House from our District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cott Ourth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4" name="Picture 2" descr="Scott Ourth - Official Portrait - 85th GA.jpg"/>
          <p:cNvPicPr/>
          <p:nvPr/>
        </p:nvPicPr>
        <p:blipFill>
          <a:blip r:embed="rId1"/>
          <a:stretch/>
        </p:blipFill>
        <p:spPr>
          <a:xfrm>
            <a:off x="3048120" y="380880"/>
            <a:ext cx="31240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Mayor of Indianol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Ken Bresna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7" name="Picture 2" descr="Ken Bresnan - Candidate For Mayor of Indianola"/>
          <p:cNvPicPr/>
          <p:nvPr/>
        </p:nvPicPr>
        <p:blipFill>
          <a:blip r:embed="rId1"/>
          <a:stretch/>
        </p:blipFill>
        <p:spPr>
          <a:xfrm>
            <a:off x="2971800" y="685800"/>
            <a:ext cx="33526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Raul Castro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President of Cuba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0" name="Picture 2" descr="Presidente de Cuba, Raúl Castro, visita Salvador.jpg"/>
          <p:cNvPicPr/>
          <p:nvPr/>
        </p:nvPicPr>
        <p:blipFill>
          <a:blip r:embed="rId1"/>
          <a:stretch/>
        </p:blipFill>
        <p:spPr>
          <a:xfrm>
            <a:off x="3276720" y="152280"/>
            <a:ext cx="27432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Russi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Vladimir Puti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Vladimir Putin 12015.jpg"/>
          <p:cNvPicPr/>
          <p:nvPr/>
        </p:nvPicPr>
        <p:blipFill>
          <a:blip r:embed="rId1"/>
          <a:stretch/>
        </p:blipFill>
        <p:spPr>
          <a:xfrm>
            <a:off x="2895480" y="152280"/>
            <a:ext cx="30481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Chancellor of German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Angela Merke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6" name="Picture 2" descr="AM Juli 2010 - 3zu4.jpg"/>
          <p:cNvPicPr/>
          <p:nvPr/>
        </p:nvPicPr>
        <p:blipFill>
          <a:blip r:embed="rId1"/>
          <a:stretch/>
        </p:blipFill>
        <p:spPr>
          <a:xfrm>
            <a:off x="2971800" y="380880"/>
            <a:ext cx="304812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ime Minister of Great Britai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David Camer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9" name="Picture 2" descr="A man, clean shaven, with short straight dark brown swept back hair wearing a suit jacket, white shirt and blue tie"/>
          <p:cNvPicPr/>
          <p:nvPr/>
        </p:nvPicPr>
        <p:blipFill>
          <a:blip r:embed="rId1"/>
          <a:stretch/>
        </p:blipFill>
        <p:spPr>
          <a:xfrm>
            <a:off x="2819520" y="228600"/>
            <a:ext cx="32004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Franc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Francois Holland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2" name="Picture 2" descr="François Hollande (Journées de Nantes 2012).jpg"/>
          <p:cNvPicPr/>
          <p:nvPr/>
        </p:nvPicPr>
        <p:blipFill>
          <a:blip r:embed="rId1"/>
          <a:stretch/>
        </p:blipFill>
        <p:spPr>
          <a:xfrm>
            <a:off x="3276720" y="228600"/>
            <a:ext cx="273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Vice President of the United States</a:t>
            </a: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e Bide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Picture 2" descr="Biden 2013.jpg"/>
          <p:cNvPicPr/>
          <p:nvPr/>
        </p:nvPicPr>
        <p:blipFill>
          <a:blip r:embed="rId1"/>
          <a:stretch/>
        </p:blipFill>
        <p:spPr>
          <a:xfrm>
            <a:off x="2895480" y="228600"/>
            <a:ext cx="3276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ime Minister of Israel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enjamin Netanyahu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5" name="Picture 2" descr="Head and shoulders portrait of 60-ish man with gray hair, wearing suit and tie and looking at camera."/>
          <p:cNvPicPr/>
          <p:nvPr/>
        </p:nvPicPr>
        <p:blipFill>
          <a:blip r:embed="rId1"/>
          <a:stretch/>
        </p:blipFill>
        <p:spPr>
          <a:xfrm>
            <a:off x="2666880" y="914400"/>
            <a:ext cx="3886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ime Minister of Canad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tephen Harp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8" name="Picture 2" descr="Stephen Harper by Remy Steinegger.jpg"/>
          <p:cNvPicPr/>
          <p:nvPr/>
        </p:nvPicPr>
        <p:blipFill>
          <a:blip r:embed="rId1"/>
          <a:stretch/>
        </p:blipFill>
        <p:spPr>
          <a:xfrm>
            <a:off x="2819520" y="228600"/>
            <a:ext cx="31240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Chin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Xi Jinping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1" name="Picture 2" descr="Xi Jinping Sept. 19, 2012.jpg"/>
          <p:cNvPicPr/>
          <p:nvPr/>
        </p:nvPicPr>
        <p:blipFill>
          <a:blip r:embed="rId1"/>
          <a:stretch/>
        </p:blipFill>
        <p:spPr>
          <a:xfrm>
            <a:off x="2666880" y="228600"/>
            <a:ext cx="33530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President of Iran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Mahmud Ahmadinejad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4" name="Picture 2" descr="Mahmoud Ahmadinejad (Brazil 2009).jpg"/>
          <p:cNvPicPr/>
          <p:nvPr/>
        </p:nvPicPr>
        <p:blipFill>
          <a:blip r:embed="rId1"/>
          <a:stretch/>
        </p:blipFill>
        <p:spPr>
          <a:xfrm>
            <a:off x="2971800" y="457200"/>
            <a:ext cx="2895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General Secretary of North Korea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Kim Jong-u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7" name="Picture 2" descr="http://graphics8.nytimes.com/images/2010/10/10/world/10korea2-span/10korea2-span-articleInline.jpg"/>
          <p:cNvPicPr/>
          <p:nvPr/>
        </p:nvPicPr>
        <p:blipFill>
          <a:blip r:embed="rId1"/>
          <a:stretch/>
        </p:blipFill>
        <p:spPr>
          <a:xfrm>
            <a:off x="3200400" y="304920"/>
            <a:ext cx="3124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-General of United Nations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Ban Ki-Moon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0" name="Picture 2" descr="Ban Ki-moon 1-2.jpg"/>
          <p:cNvPicPr/>
          <p:nvPr/>
        </p:nvPicPr>
        <p:blipFill>
          <a:blip r:embed="rId1"/>
          <a:stretch/>
        </p:blipFill>
        <p:spPr>
          <a:xfrm>
            <a:off x="2743200" y="33336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American UN Ambassador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Susan Ric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3" name="Picture 2" descr="Susan Rice, official State Dept photo portrait, 2009.jpg"/>
          <p:cNvPicPr/>
          <p:nvPr/>
        </p:nvPicPr>
        <p:blipFill>
          <a:blip r:embed="rId1"/>
          <a:stretch/>
        </p:blipFill>
        <p:spPr>
          <a:xfrm>
            <a:off x="2971800" y="22860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peaker of the Hou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hn Boehn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7" name="Picture 2" descr="John Boehner official portrait.jpg"/>
          <p:cNvPicPr/>
          <p:nvPr/>
        </p:nvPicPr>
        <p:blipFill>
          <a:blip r:embed="rId1"/>
          <a:stretch/>
        </p:blipFill>
        <p:spPr>
          <a:xfrm>
            <a:off x="3124080" y="3049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 of Stat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ohn Kerry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2" descr="John Kerry official Secretary of State portrait.jpg"/>
          <p:cNvPicPr/>
          <p:nvPr/>
        </p:nvPicPr>
        <p:blipFill>
          <a:blip r:embed="rId1"/>
          <a:stretch/>
        </p:blipFill>
        <p:spPr>
          <a:xfrm>
            <a:off x="2819520" y="284040"/>
            <a:ext cx="335268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U.S. Attorney General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Eric Holder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Picture 2" descr="Eric Holder official portrait.jpg"/>
          <p:cNvPicPr/>
          <p:nvPr/>
        </p:nvPicPr>
        <p:blipFill>
          <a:blip r:embed="rId1"/>
          <a:stretch/>
        </p:blipFill>
        <p:spPr>
          <a:xfrm>
            <a:off x="2971800" y="22860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 of Defens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Chuck Hagel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huck Hagel Defense portrait.jpg"/>
          <p:cNvPicPr/>
          <p:nvPr/>
        </p:nvPicPr>
        <p:blipFill>
          <a:blip r:embed="rId1"/>
          <a:stretch/>
        </p:blipFill>
        <p:spPr>
          <a:xfrm>
            <a:off x="2819520" y="22860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 of Treasury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Jack Lew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2" descr="Jacob Lew official portrait.jpg"/>
          <p:cNvPicPr/>
          <p:nvPr/>
        </p:nvPicPr>
        <p:blipFill>
          <a:blip r:embed="rId1"/>
          <a:stretch/>
        </p:blipFill>
        <p:spPr>
          <a:xfrm>
            <a:off x="2819520" y="152280"/>
            <a:ext cx="31240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Franklin Gothic Book"/>
              </a:rPr>
              <a:t>Secretary of Agricultur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rpetua"/>
              </a:rPr>
              <a:t>Tom Vilsack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2" descr="Tom Vilsack, official USDA photo portrait.jpg"/>
          <p:cNvPicPr/>
          <p:nvPr/>
        </p:nvPicPr>
        <p:blipFill>
          <a:blip r:embed="rId1"/>
          <a:stretch/>
        </p:blipFill>
        <p:spPr>
          <a:xfrm>
            <a:off x="2819520" y="228600"/>
            <a:ext cx="3429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57:28Z</dcterms:created>
  <dc:creator>Dustin</dc:creator>
  <dc:description/>
  <dc:language>en-US</dc:language>
  <cp:lastModifiedBy>lullmannj</cp:lastModifiedBy>
  <dcterms:modified xsi:type="dcterms:W3CDTF">2013-04-03T14:04:45Z</dcterms:modified>
  <cp:revision>13</cp:revision>
  <dc:subject/>
  <dc:title>Leaders</dc:title>
</cp:coreProperties>
</file>